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292D-B310-40BE-8321-3FD64F0A3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D85F-1DFD-43D9-A524-98AD0CC6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CF0C-BD85-4337-9627-34D9822C3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09F7-CDD8-4CD0-9027-7F8C61518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B99B-F7BB-434E-A958-02CBEC8D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9322-4770-4C32-AAE3-5212D4D4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6B58-D7E7-49BA-9483-455215F3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F650-F49D-43D2-BBCC-4053361F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FCE0-C542-4243-B4CA-6BA8E89F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622A-7011-4BDF-ABBD-1D0DC485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4C70-DB52-4C08-A0E3-B7A01DD0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5CEF-4182-4E53-811B-C3956B26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6D98-9FFD-4072-84C3-957FFAA74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361960"/>
            <a:ext cx="80010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ales Ta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742080" y="228600"/>
            <a:ext cx="2401920" cy="2895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52840" cy="2306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019920" y="3781440"/>
            <a:ext cx="3124080" cy="3076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3949560"/>
            <a:ext cx="3505320" cy="2794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657600" y="4419720"/>
            <a:ext cx="1819440" cy="181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962520" y="6858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do you figure out how much tax you have to pa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New Brunswick, we have to pay both sales tax and a tax we call the Goods and Services Tax (GST) on most items we bu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government decided to put both of these taxes together and call them the Harmonized Sales Tax.  (H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Brunswick’s HST is set at 14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30592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s means that everything you buy (including things like hair cuts) are subject to an additional 14%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33526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’s important to be able to calculate this so that you will know how much money you will need to buy an i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Example, you want to buy a new bik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15000" y="2133720"/>
            <a:ext cx="2438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ike you want costs $120.  How much is the sales tax on this bike.  How much will it cost you all together to buy the b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04920" y="1676520"/>
            <a:ext cx="4495680" cy="4495680"/>
            <a:chOff x="304920" y="1676520"/>
            <a:chExt cx="4495680" cy="449568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04920" y="1676520"/>
              <a:ext cx="4495680" cy="449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2209680" y="2666880"/>
              <a:ext cx="966960" cy="8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8784200">
              <a:off x="2202840" y="29818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, figure out what question is being ask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04920" y="1676520"/>
            <a:ext cx="4495680" cy="4495680"/>
            <a:chOff x="304920" y="1676520"/>
            <a:chExt cx="4495680" cy="449568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304920" y="1676520"/>
              <a:ext cx="4495680" cy="449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2209680" y="2666880"/>
              <a:ext cx="966960" cy="8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 rot="18784200">
              <a:off x="2202840" y="29818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5486400" y="160020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questio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25360" y="2819520"/>
            <a:ext cx="40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hematically, it can be written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36600" y="3733920"/>
            <a:ext cx="209052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0.14 x $120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6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41960" y="445608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ce it is money, we would state that the tax would 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80400" y="5675400"/>
            <a:ext cx="71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w to find the total cost, we add the tax to the price of the bi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56080" y="6172200"/>
            <a:ext cx="279432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$16.80 + $120 = $136.8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30960" y="2133720"/>
            <a:ext cx="273348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What is 14% of $120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22400" y="5181480"/>
            <a:ext cx="87732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$16.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gure out the Sales Tax and the total cost of the following item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2666880" cy="1724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3048120" cy="1765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33520" y="3809880"/>
            <a:ext cx="2732040" cy="2743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791320" y="3962520"/>
            <a:ext cx="2361960" cy="2361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298160" y="34290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2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41400" y="32004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669760" y="60958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36.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84560" y="60958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1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out the sales tax and total cost for each of the follow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2971800" cy="2106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14400" y="4419720"/>
            <a:ext cx="2819520" cy="2068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334120" y="1828800"/>
            <a:ext cx="3124080" cy="2197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105520" y="4368960"/>
            <a:ext cx="3095640" cy="2199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593440" y="35053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29.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27200" y="2514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8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74320" y="50292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96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78200" y="62118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14.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21:28:54Z</dcterms:created>
  <dc:creator>admin</dc:creator>
  <dc:description/>
  <dc:language>en-US</dc:language>
  <cp:lastModifiedBy>admin</cp:lastModifiedBy>
  <dcterms:modified xsi:type="dcterms:W3CDTF">2007-12-19T18:17:21Z</dcterms:modified>
  <cp:revision>7</cp:revision>
  <dc:subject/>
  <dc:title>Sales Tax </dc:title>
</cp:coreProperties>
</file>